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BA0-BC77-4CFC-AAF4-C528F838F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712C-82AB-45E2-AAB3-B75E7602F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E4B-ECBC-4A4C-A85C-2F534ABD1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60EC-35B7-47B2-8806-8FC9631C3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3E7-45C7-4F27-B3CA-A3E92535A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53A-1535-4A17-A7A2-239F7DA6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DF5-E313-4B87-867F-6F9E182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6E9-8F35-4280-A479-96743141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2A8-A6BF-413A-9ECE-AFE4FDA0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1D52-1FF8-4954-A246-85DED5EF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692F-7E66-4667-B739-1E394F9B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B0E3-FFC6-45B8-AD48-D9BE108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0823-1FE0-4295-94DA-D7C2BC99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9F9C-BBC7-4BB6-A59B-B244ECF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3BB5-6C16-44FB-A185-8926231A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20F-37B1-405F-AB93-3563099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05D-9CD1-4ADB-AFF7-5D6E5674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054B-4758-4F03-AC56-8B41A27F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3FB2-C406-4C2F-9646-257FFC66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AD69-60B7-4836-A88B-25376490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E661-2E63-4EFF-8943-54DD65A6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7015-56FB-4D29-AF20-D772BC74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982F-1F8C-4FA2-B688-0D22D784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74EA-9F37-48A8-9163-97236DC4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3DEB-C5FD-4711-9D07-02740D6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827E-0BED-468F-BA8F-A1A05197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636F-4030-4614-9E25-406076C9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27E-E170-4426-81AC-78BB110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8C32-A117-447B-936F-7726FE84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A89B-2381-4A57-BD44-51C463B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0352-8B7F-4873-9B54-B9CB7A4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D4AE-DFA6-4342-BC03-984D66F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E6F8-9092-4B74-8FE5-C542228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42AC-B051-45FB-BFC7-F365680C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20AB-9E57-468E-948E-0C5768E6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B66B-47AB-41F8-9750-29700411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AC3D-A2BA-4A5B-94AF-4BBB9815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AFA9-F2B3-4BDC-94E6-4A523DCE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031-A78D-45BB-9FD2-A2F6E944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C909-E39B-421C-9D8F-A1EAA6B1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4B0F-38EF-45B7-8B47-2F8995FA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7C22-F52D-421F-8D62-CE16518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5134-60CD-43FC-94BB-69C59D0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DF5A-D91A-40C5-88E7-2958D810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6D7E-0CD9-4C9D-A987-38165D7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EB7C-B5B2-4EF6-9030-C06BB1C2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003A-3B32-4A46-9A7B-DF68DB17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2040-12A6-439B-B010-C787C1BB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1501-E2B7-4618-977E-13B23581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5AB-6688-410E-B7CB-38CD3E8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5A91E-5994-4801-B81A-D04A1115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5813-1182-4DFF-926D-58F110E3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DBF3-29B2-4D22-9D2D-A52815F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5E0D-AF4B-48FF-9B4C-58CF4EAD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A42F9-0FA7-4B70-8264-7BD64BC1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FD89-6C67-4DB0-AE7B-205A8BEC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7FE77-21D8-4176-8FA5-B0BE144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94CF-120C-41C7-8273-FB351BC6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C9CB-7956-4B75-B10C-2AC52110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7C49-F139-4CB7-8AEE-BCCD86B5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7BD-932D-45E3-A711-DEFD2ACB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9B34-5AA0-498F-8BF2-157559DA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C83-D46E-4B1A-9659-F607ED9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AE6-7B8D-4A81-803A-635AB2C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4F9-E717-4035-BB4D-192338A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1F8A-646D-4430-8A9B-7F1A9F821A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258-C591-4B90-883D-DC8067F0E53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CF3-23C9-48C3-B621-B104D870DE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C420-5AED-45DE-89CA-93D989E840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14FB-9402-41B9-91FE-15EED0504FE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Poetry of the Peop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ll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ong or songlike poem that tells a story in a regular pattern of rhythm and rhyme and uses simple, direct langu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e from an oral trad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strict rules dictating their fo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es from an Old French word meaning “dancing song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eliques of Ancient English Poet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collection of ballads gathered by Thomas Percy and published in 176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spired others to collect ballads from the people who sang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jects of ballads – the everyday life of common fol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ernatural ev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nsational, sordid, or tragic subject mat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istics of 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e and dir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tle or no backg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-and-answer format – details are gathered little by little from the answers; helps build suspen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rain – repetition of the last line or tw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remental repetition – repetition of previous lines with slight vari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ical – meant to be sung for a general audience; strong, simple be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ventional phrases – understood by listeners to have meanings beyond the literal ones (ex. “Make my bed soon”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3:38:02Z</dcterms:created>
  <dc:creator>pcoles</dc:creator>
  <dc:description/>
  <dc:language>en-US</dc:language>
  <cp:lastModifiedBy>Trina Vest</cp:lastModifiedBy>
  <dcterms:modified xsi:type="dcterms:W3CDTF">2010-09-03T12:06:45Z</dcterms:modified>
  <cp:revision>6</cp:revision>
  <dc:subject/>
  <dc:title>Ballads</dc:title>
</cp:coreProperties>
</file>